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B7F-BCFB-4D4F-9AAD-5218A777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152-1763-44B7-907F-F0A08834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C0F-5063-4BB6-A373-FF033490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2B1C-D1EE-4415-8207-8178D421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A5D-2872-4D4A-97FC-C2C2F43C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0FD7-82CC-407D-9D15-B0EA3150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368-F275-4198-8657-7820CF8A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7AAD-5A67-485B-8996-CBE8A5BC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A1F-D214-4A82-B25A-B867ECAF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A5A-4FA1-47C9-88E7-C87DE0E2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55B8-8151-4688-B35B-BF169EB9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D67B-CCC7-4944-B707-0A22FE88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8693-962F-4CD8-81B3-916580729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na.visitjordan.com/" TargetMode="External"/><Relationship Id="rId3" Type="http://schemas.openxmlformats.org/officeDocument/2006/relationships/hyperlink" Target="http://www.infoplease.com/ce6/world/A0859062.html" TargetMode="External"/><Relationship Id="rId4" Type="http://schemas.openxmlformats.org/officeDocument/2006/relationships/hyperlink" Target="http://www.kinghussein.gov.jo/geo_env2.html" TargetMode="External"/><Relationship Id="rId5" Type="http://schemas.openxmlformats.org/officeDocument/2006/relationships/hyperlink" Target="http://student.britannica.com/comptons/article-203293/Jordan" TargetMode="External"/><Relationship Id="rId6" Type="http://schemas.openxmlformats.org/officeDocument/2006/relationships/hyperlink" Target="http://www.bbcnews.com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43200" y="6171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Liz Trump &amp; Katelyn Ald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4920" y="76320"/>
            <a:ext cx="5562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Planet Benson 2"/>
              </a:rPr>
              <a:t>Jordan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Planet Benson 2"/>
              <a:ea typeface="Planet Benson 2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4495680" cy="3657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95680" y="3733920"/>
            <a:ext cx="4648320" cy="3124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0" y="3656160"/>
            <a:ext cx="4495680" cy="3201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4495680" y="0"/>
            <a:ext cx="4648320" cy="3733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Places to Visi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avorite archeological place; has old artifacts, like a small medieval mo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 a unique blend of old and new with traditional coffee shops and art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tra’s Byzantine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s built around 450 A.D; has two aisles that have mosaics, pictures of mythological animals, Noah’s ark animals and the seas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a.visitjordan.com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February 19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infoplease.com/ce6/world/A0859062.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February 24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kinghussein.gov.jo/geo_env2.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February 24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student.britannica.com/comptons/article-203293/Jorda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February 25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bbcnews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February 26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main areas; the Jordan Valley, the Mountain Heights Plateau, and the eastern desert (Badia reg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rdan Val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’s most fertile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ins Jordan River; 20-30 meters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untain Heights Plat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es the Valley from the des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ntire length of the western part of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west of Jordan is Israel and to the east is Saudi Arabia and Iraq. To the north lies Sy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ad Sea is part of the border line for Jordan and Isra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ish live in the Dead Sea because of its saltin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16374"/>
          <a:stretch/>
        </p:blipFill>
        <p:spPr>
          <a:xfrm>
            <a:off x="4738680" y="0"/>
            <a:ext cx="4405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28600" y="228600"/>
            <a:ext cx="4191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99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urry Up"/>
              </a:rPr>
              <a:t>The Land cont...</a:t>
            </a:r>
            <a:endParaRPr b="0" lang="en-US" sz="2800" spc="1" strike="noStrike">
              <a:ln w="9360">
                <a:solidFill>
                  <a:srgbClr val="ffcc99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urry Up"/>
              <a:ea typeface="Hurry Up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342900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/Vege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y season from November to April; dry weather rest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hot, dry summers and cool winters, country has Mediterranean-style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r wildlife consist of: Oryx, oxen, and the ib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popular are the Arabian horse, camels and donk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mmon flora are the olive, eucalyptus and cedar trees as well as the black iris which is the national flower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4038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d by King Abdullah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 Minister, Marouf al-Bak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 Prime Minister, Zlad Fare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s about 6,198,6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3581280" cy="197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1828800" cy="1820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&amp; Curren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rdan was known as the most safest country until late 2005 when dozens of people were killed in suicide bomb attacks on hotels in the capital. Iraq-based Islamic militants claimed respo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g Hussein had survived wars, and even assassination attempts. At the age of 63, he died from cancer. His brother was to be his heir, until his son was a little old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s limit to the basic items such as clothing, construction materials and consumer goo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exports are clothing, fertilizers and agricultural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ing trade partners are the United States, Saudi Arabia and 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rdan literacy rate is about 90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% of population was unemployed in the year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fficial currency is the Jordanian dinar, which can be subdivided into 100 piastres or f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077320" y="6054840"/>
            <a:ext cx="838080" cy="803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0" t="27273" r="0" b="27986"/>
          <a:stretch/>
        </p:blipFill>
        <p:spPr>
          <a:xfrm rot="1180800">
            <a:off x="7620120" y="5105160"/>
            <a:ext cx="1447560" cy="61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 Language is Ara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90% of the population is Muslim and about 5% are Christi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male clothing consists of tunic, pants and elaborate over garment with a sash or a 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male clothing has more of a variety in decoration with different colors and embroideries. They wear sashes over their heads and have long dress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e, flat breads, olives, lamb or chicken, yogurt, veggies and fruits are the basic ingredients for most of their dis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saf is the national dish which is made up of lamb in dry yogurt. It is served on flat bread and with ri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267440" cy="3201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11738" r="0" b="0"/>
          <a:stretch/>
        </p:blipFill>
        <p:spPr>
          <a:xfrm>
            <a:off x="3733920" y="3568680"/>
            <a:ext cx="5181480" cy="3044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029200" y="9907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s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419360" y="12193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52280" y="3886200"/>
            <a:ext cx="3467160" cy="2770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4120" y="32148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 Men 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581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 Women 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95880" y="2286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43:25Z</dcterms:created>
  <dc:creator>elizabethntrump</dc:creator>
  <dc:description/>
  <dc:language>en-US</dc:language>
  <cp:lastModifiedBy>elizabethntrump</cp:lastModifiedBy>
  <dcterms:modified xsi:type="dcterms:W3CDTF">2009-03-05T19:00:22Z</dcterms:modified>
  <cp:revision>12</cp:revision>
  <dc:subject/>
  <dc:title>JORDAN</dc:title>
</cp:coreProperties>
</file>